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2.wmf" ContentType="image/x-wmf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1DC2-F89D-4B31-9EC4-336587CC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3B3-86EF-41A8-8ABA-E578A627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B42-9D20-4B34-890D-9096A63F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EB7-C49C-42DB-8CC3-81127D8A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66A1-C1DE-47BA-826C-0E47F6B5A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99C8C-6D02-4A26-89B2-43AFA14B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E8BC-1B87-49F8-8D07-E07E367B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FF6C-27AF-4EAE-B083-562F24AA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B64B-E443-4601-A4A1-6FF5A483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0A2E-6663-4D20-A619-738576BA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0444-659D-4382-BB7C-6B149E5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5B8-A5FB-4208-A97C-B779D62BA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EA23-BEA9-4CDE-BC83-7C4DEED8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D56B-6A0A-4446-99AB-96004BE0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DA59-4A2B-473C-A3B3-EE3EDE1E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F06F-9AFE-4C0B-8E5D-735EEFAB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239-C517-4181-8362-9404BE570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06D0-8E80-4CDB-95C4-3CA26EFE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A430A-3CBA-41AA-A644-A2D31267D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56A9D-819C-44E3-9ED7-B1907E24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577E-C6DB-4FAC-9F41-7F035628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C333-2D39-4F38-A945-9B2F16EF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91BF-CA00-425D-B8C6-81BEC205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71B8-B0B1-4B82-9A4C-867C13E5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3A5CF-7DA7-4CC1-8A16-4BF9ACAC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85B13-D371-4DEC-BC64-71651161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C01C4-0797-4EC1-9BB9-B6E23EA0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A6938-8F4B-4063-B1BA-5919F3BAE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A55FD-E84B-49DC-92C1-40517C20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39169-1E49-4C47-AA7C-33EF4D61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968DE-654B-4F69-AE29-D0B2C9CB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CA010-4C71-4FF1-A0C0-BA657035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6F2BE-C591-490B-87EB-E548C26F1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93FC-4554-406B-8E97-1341421C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552F-9B17-4983-AD91-4B7F0E4E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F3827-E8D4-4F6E-8352-C05EFB19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063D3-2B0D-425A-AC80-605BA345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73872-7F27-4035-966F-BAA97116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4E4FC-1860-4ED0-B50F-D03158C8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CBB3B-D967-4919-97FA-CD2F1192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B73A-588B-4109-915B-14CD80BC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38D98-3011-48F5-B35A-EA8335CBA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80967-92EE-4264-B9F0-8ADDD12A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42F-563D-4F2E-A852-F8AB2542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10A3-5FCF-4F7D-9858-0F870BBF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0B6B-5CCD-4A93-9B21-D8888B3C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758-66C5-412D-9289-CF254589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A5A-B62D-4E02-A8D7-7268F4DD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D6E3-5F38-4B0B-AB77-F11AB0D8AC2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25D0-EFB4-4E9C-AFBC-4DFE96C2DE5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6FBA-F397-4FEF-8C5D-FAF12F02C57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BAE4-87DC-49D5-BD5F-6FFF90ECA98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utri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6" name="Picture 2" descr="C:\Documents and Settings\ECPS-User\Local Settings\Temporary Internet Files\Content.IE5\PAMHR9RU\MP900289057[1].jpg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y Do We Eat????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Content Placeholder 5" descr="15_woman-eating-apple.jpg"/>
          <p:cNvPicPr/>
          <p:nvPr/>
        </p:nvPicPr>
        <p:blipFill>
          <a:blip r:embed="rId1"/>
          <a:stretch/>
        </p:blipFill>
        <p:spPr>
          <a:xfrm>
            <a:off x="2286000" y="2133720"/>
            <a:ext cx="4724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Title 1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ung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oredom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adnes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epress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angers of Overeat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overeating.jpg"/>
          <p:cNvPicPr/>
          <p:nvPr/>
        </p:nvPicPr>
        <p:blipFill>
          <a:blip r:embed="rId1"/>
          <a:stretch/>
        </p:blipFill>
        <p:spPr>
          <a:xfrm>
            <a:off x="1066680" y="2133720"/>
            <a:ext cx="708660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Title 1" descr=""/>
          <p:cNvPicPr/>
          <p:nvPr/>
        </p:nvPicPr>
        <p:blipFill>
          <a:blip r:embed="rId1"/>
          <a:stretch/>
        </p:blipFill>
        <p:spPr>
          <a:xfrm>
            <a:off x="682560" y="682560"/>
            <a:ext cx="8229600" cy="15429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371600" y="20570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eight Ga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Cholester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High Blood Pressur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iabete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 risk of Strok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ncrease risk of Canc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How Do We Know If We Are Overeating??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6" name="Picture 2" descr="C:\Documents and Settings\ECPS-User\Local Settings\Temporary Internet Files\Content.IE5\VQ2LI6HE\MP900302920[1].jpg"/>
          <p:cNvPicPr/>
          <p:nvPr/>
        </p:nvPicPr>
        <p:blipFill>
          <a:blip r:embed="rId1"/>
          <a:stretch/>
        </p:blipFill>
        <p:spPr>
          <a:xfrm>
            <a:off x="2666880" y="2300400"/>
            <a:ext cx="38102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alories In = Calories O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Documents and Settings\ECPS-User\Local Settings\Temporary Internet Files\Content.IE5\AN5J0SYW\MC900022517[1].wmf"/>
          <p:cNvPicPr/>
          <p:nvPr/>
        </p:nvPicPr>
        <p:blipFill>
          <a:blip r:embed="rId1"/>
          <a:stretch/>
        </p:blipFill>
        <p:spPr>
          <a:xfrm>
            <a:off x="990720" y="2209680"/>
            <a:ext cx="2768400" cy="396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Documents and Settings\ECPS-User\Local Settings\Temporary Internet Files\Content.IE5\PAMHR9RU\MC900060327[1].wmf"/>
          <p:cNvPicPr/>
          <p:nvPr/>
        </p:nvPicPr>
        <p:blipFill>
          <a:blip r:embed="rId2"/>
          <a:stretch/>
        </p:blipFill>
        <p:spPr>
          <a:xfrm>
            <a:off x="4724280" y="2209680"/>
            <a:ext cx="27432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Title 3" descr=""/>
          <p:cNvPicPr/>
          <p:nvPr/>
        </p:nvPicPr>
        <p:blipFill>
          <a:blip r:embed="rId1"/>
          <a:stretch/>
        </p:blipFill>
        <p:spPr>
          <a:xfrm>
            <a:off x="55440" y="755640"/>
            <a:ext cx="8259840" cy="14382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he average  9-13 year old needs approx. 1,800 to 2,200 calories per da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3,500 calories  will produce one pound of fa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alking at a “moderate” rate (3.0 m.p.h.) burns approx. 200 calories in an hou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If more calories are taken in than burned, the excess calories will be stored as fat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22:04:46Z</dcterms:created>
  <dc:creator>ECPS-User</dc:creator>
  <dc:description/>
  <dc:language>en-US</dc:language>
  <cp:lastModifiedBy>ECPS-User</cp:lastModifiedBy>
  <dcterms:modified xsi:type="dcterms:W3CDTF">2010-10-06T23:09:15Z</dcterms:modified>
  <cp:revision>7</cp:revision>
  <dc:subject/>
  <dc:title>Nutrition</dc:title>
</cp:coreProperties>
</file>